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C3C-240D-41B0-AF3E-7314031C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332-8192-478C-AB8D-45ED9B7E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935-25A1-4A1C-BBD7-60A539CC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7C9-41FC-48F5-ACED-3B6D0062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469-EF89-4B92-B62E-6D477A52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10B-11DE-4941-8019-1384F844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16D-0C03-4C4B-B7CA-47CBC3DF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E07-83C4-4B80-8AC7-DD78B3C2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33D-110B-45FF-AEB2-328E617B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43F-7864-4289-9C7C-8B51575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E2B-1093-4F7E-A966-55400A40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1FA-EE3D-468C-8517-BF764ED6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8DBD-C9F3-442A-9AFC-7BEE98CA2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-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it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867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1629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92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51Z</dcterms:created>
  <dc:creator>User</dc:creator>
  <dc:description/>
  <dc:language>en-US</dc:language>
  <cp:lastModifiedBy>User</cp:lastModifiedBy>
  <dcterms:modified xsi:type="dcterms:W3CDTF">2012-02-04T11:10:51Z</dcterms:modified>
  <cp:revision>9</cp:revision>
  <dc:subject/>
  <dc:title>CAPITOLUL 3</dc:title>
</cp:coreProperties>
</file>